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4867-B6BB-4AF1-8C04-8DFD9F6B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097F-2009-40B9-B9B0-71C657EB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2C1-F751-4EB0-A1DE-F53EDFE5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E7C-7600-4D74-BD99-E8C2E387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595-8FF6-4765-B24A-C07B4CF7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4C3F-23E3-44DC-8791-57485AA6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3DE5-FDF0-40C2-B8EA-95661B9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9FE-4B48-408B-8B8A-EFA74043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1546-64A8-40D4-AC04-7812A23D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0CD-9725-4DDD-94DB-E8FF54F5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724-E116-4F89-A36B-9B9EA04E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017-0A20-432B-8324-A7F15252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E4B3-E988-4205-B928-605C59E6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nstrative Ad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/Cet/Cette/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533520"/>
            <a:ext cx="4991040" cy="49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0600" y="1776240"/>
            <a:ext cx="4762800" cy="33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1066680"/>
            <a:ext cx="3992760" cy="42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838600" y="1090440"/>
            <a:ext cx="346680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53337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1457280"/>
            <a:ext cx="6400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ld up the appropriate colored card with the correct demonstrative adjective. Slides will change every 5 second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33880" cy="41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529128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05040" y="1090440"/>
            <a:ext cx="55339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43040" y="1528920"/>
            <a:ext cx="4057920" cy="38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Pencil Clip Art"/>
          <p:cNvPicPr/>
          <p:nvPr/>
        </p:nvPicPr>
        <p:blipFill>
          <a:blip r:embed="rId1"/>
          <a:stretch/>
        </p:blipFill>
        <p:spPr>
          <a:xfrm>
            <a:off x="2971800" y="990720"/>
            <a:ext cx="333072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38960" cy="55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7400" y="990720"/>
            <a:ext cx="494352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722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066680"/>
            <a:ext cx="474516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438800" cy="29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85880" y="1090440"/>
            <a:ext cx="397224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33440" y="1090440"/>
            <a:ext cx="4677120" cy="46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285920"/>
            <a:ext cx="6400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6:19:19Z</dcterms:created>
  <dc:creator>asmith</dc:creator>
  <dc:description/>
  <dc:language>en-US</dc:language>
  <cp:lastModifiedBy>asmith</cp:lastModifiedBy>
  <dcterms:modified xsi:type="dcterms:W3CDTF">2012-01-20T20:43:02Z</dcterms:modified>
  <cp:revision>5</cp:revision>
  <dc:subject/>
  <dc:title>Demonstrative Adjectives </dc:title>
</cp:coreProperties>
</file>